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86F5-16A0-4040-A716-729F4193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8548-6E48-433C-92A5-3FD77BCC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D9A-62BC-49A8-8515-062D9A5A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837-5171-4282-B079-912808C9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4BE-3C69-4345-BEA7-37336F4D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D4C-C48F-4718-A772-439EE163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36D-9AB4-4826-978F-421EAA71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D8B-36B9-400A-A8EC-332735D2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DC1-67EB-4364-8B1D-E4C82A25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0A0-D6FA-4C7B-B075-C0E6EBD8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5BE-DF36-411D-AB0C-BF1E8E89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A4E-712B-4775-A314-86EA13BD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5B7B-DC17-466B-B249-6F6D3B6CD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1604880" cy="2006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267080" y="1324080"/>
            <a:ext cx="1644840" cy="2057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362320" y="3657600"/>
            <a:ext cx="1584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7:39:10Z</dcterms:created>
  <dc:creator>Darren Frydendall</dc:creator>
  <dc:description/>
  <dc:language>en-US</dc:language>
  <cp:lastModifiedBy>Darren Frydendall</cp:lastModifiedBy>
  <dcterms:modified xsi:type="dcterms:W3CDTF">2005-05-25T18:05:10Z</dcterms:modified>
  <cp:revision>1</cp:revision>
  <dc:subject/>
  <dc:title>PowerPoint Presentation</dc:title>
</cp:coreProperties>
</file>